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B1C-C500-452A-B7B8-0142967C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A52-0A59-4919-904E-2AFC5436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750-D7BF-4022-8535-497380BF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88E-1EA4-48CB-BC53-C167DF5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3F1-D750-4675-BE3A-C97C79AC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D7B-53CE-4A62-B207-DE50236F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786-30C5-4E06-8D20-059AC041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653-C9D8-4E7C-924F-B209CB2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B7C-37E7-4768-917A-60063336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EE3-141B-40E2-9E82-0F1BE4D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EFF-BBAC-4343-A73E-35AC29D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76D-4DE2-4999-8EF4-627AB22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2265-7F2A-48F9-A58D-441852C0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0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d.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240" y="12654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he following lesson into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eboo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ork, assigned in the textbook, in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book pages as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will be checked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ever is not finished in class MUST BE DONE FOR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* IF I GET A BAD REPORT FROM THE SUBSTITUTE TEACHER, THERE WILL BE CONSEQUENCES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         Clase 802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1 de abril del 20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fue el ultimo libro que leí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review the preterite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an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WRIT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mí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beb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endimos mucho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no lo vendie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comprendieron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verbos Oir, L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60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hear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s irregular in the present and also in the preterit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read)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 the preterite has the same ending than the verb “Oi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38480" y="914400"/>
          <a:ext cx="4843440" cy="2773440"/>
        </p:xfrm>
        <a:graphic>
          <a:graphicData uri="http://schemas.openxmlformats.org/drawingml/2006/table">
            <a:tbl>
              <a:tblPr/>
              <a:tblGrid>
                <a:gridCol w="2017800"/>
                <a:gridCol w="1413000"/>
                <a:gridCol w="141264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r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038480" y="3997440"/>
          <a:ext cx="4953240" cy="2558880"/>
        </p:xfrm>
        <a:graphic>
          <a:graphicData uri="http://schemas.openxmlformats.org/drawingml/2006/table">
            <a:tbl>
              <a:tblPr/>
              <a:tblGrid>
                <a:gridCol w="1238400"/>
                <a:gridCol w="1158840"/>
                <a:gridCol w="1436760"/>
                <a:gridCol w="1119240"/>
              </a:tblGrid>
              <a:tr h="5461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93"/>
          <p:cNvSpPr/>
          <p:nvPr/>
        </p:nvSpPr>
        <p:spPr>
          <a:xfrm>
            <a:off x="6356520" y="17272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4"/>
          <p:cNvSpPr/>
          <p:nvPr/>
        </p:nvSpPr>
        <p:spPr>
          <a:xfrm>
            <a:off x="6365880" y="21178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5"/>
          <p:cNvSpPr/>
          <p:nvPr/>
        </p:nvSpPr>
        <p:spPr>
          <a:xfrm>
            <a:off x="6354000" y="24987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6"/>
          <p:cNvSpPr/>
          <p:nvPr/>
        </p:nvSpPr>
        <p:spPr>
          <a:xfrm>
            <a:off x="6217560" y="287964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7"/>
          <p:cNvSpPr/>
          <p:nvPr/>
        </p:nvSpPr>
        <p:spPr>
          <a:xfrm>
            <a:off x="6325560" y="32608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8"/>
          <p:cNvSpPr/>
          <p:nvPr/>
        </p:nvSpPr>
        <p:spPr>
          <a:xfrm>
            <a:off x="7711200" y="1676520"/>
            <a:ext cx="41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9"/>
          <p:cNvSpPr/>
          <p:nvPr/>
        </p:nvSpPr>
        <p:spPr>
          <a:xfrm>
            <a:off x="7659360" y="2133720"/>
            <a:ext cx="802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0"/>
          <p:cNvSpPr/>
          <p:nvPr/>
        </p:nvSpPr>
        <p:spPr>
          <a:xfrm>
            <a:off x="7649640" y="2514600"/>
            <a:ext cx="639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1"/>
          <p:cNvSpPr/>
          <p:nvPr/>
        </p:nvSpPr>
        <p:spPr>
          <a:xfrm>
            <a:off x="7705080" y="2895480"/>
            <a:ext cx="94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2"/>
          <p:cNvSpPr/>
          <p:nvPr/>
        </p:nvSpPr>
        <p:spPr>
          <a:xfrm>
            <a:off x="7670520" y="3276720"/>
            <a:ext cx="107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"/>
          <p:cNvSpPr/>
          <p:nvPr/>
        </p:nvSpPr>
        <p:spPr>
          <a:xfrm>
            <a:off x="5469840" y="4556160"/>
            <a:ext cx="48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4"/>
          <p:cNvSpPr/>
          <p:nvPr/>
        </p:nvSpPr>
        <p:spPr>
          <a:xfrm>
            <a:off x="5378040" y="5318280"/>
            <a:ext cx="87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5"/>
          <p:cNvSpPr/>
          <p:nvPr/>
        </p:nvSpPr>
        <p:spPr>
          <a:xfrm>
            <a:off x="5368320" y="5943600"/>
            <a:ext cx="711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6"/>
          <p:cNvSpPr/>
          <p:nvPr/>
        </p:nvSpPr>
        <p:spPr>
          <a:xfrm>
            <a:off x="7974720" y="457200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7"/>
          <p:cNvSpPr/>
          <p:nvPr/>
        </p:nvSpPr>
        <p:spPr>
          <a:xfrm>
            <a:off x="7867080" y="59436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8.7-8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8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80880" y="399240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4:49:35Z</dcterms:created>
  <dc:creator>Helen Zumaeta</dc:creator>
  <dc:description/>
  <dc:language>en-US</dc:language>
  <cp:lastModifiedBy>Helen Zumaeta</cp:lastModifiedBy>
  <dcterms:modified xsi:type="dcterms:W3CDTF">2016-04-20T18:08:28Z</dcterms:modified>
  <cp:revision>13</cp:revision>
  <dc:subject/>
  <dc:title>Me llamo ___________          Clase 8im La fecha es el 18 de diciembre del 2012</dc:title>
</cp:coreProperties>
</file>